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208-D904-435D-995A-31B3FD21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691-B096-41D9-9F14-C06D4EE7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938-EDD6-4B30-80D5-5EC6D062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49D-BEE2-4FC7-8A18-08446F1A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83C-23F4-409F-9F16-FA952D67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6FE-5E85-4C72-B5D7-E8ABAD39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BDA-2A62-424E-A591-91ED248D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F58-6681-48AF-9058-37C3411D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BBF-E54C-4CA1-83DB-E0D0561E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163E-9E92-41F1-9112-49D1F95F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BAED-D066-4390-B83B-4775E53A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E9F-B096-4EBD-908F-2D440425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C564-66DB-415E-82F4-AA00807E7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6:17:17Z</dcterms:created>
  <dc:creator>Grupo Editorial</dc:creator>
  <dc:description/>
  <dc:language>en-US</dc:language>
  <cp:lastModifiedBy>Grupo Editorial</cp:lastModifiedBy>
  <dcterms:modified xsi:type="dcterms:W3CDTF">2001-09-27T16:19:59Z</dcterms:modified>
  <cp:revision>1</cp:revision>
  <dc:subject/>
  <dc:title>Sin título de diapositiva</dc:title>
</cp:coreProperties>
</file>